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320-4B67-4B03-9DBB-B3D35B52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B5F-F732-4FFF-9A62-0ACDFD09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2C8-361A-491C-943B-3DCF0AFE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FF2-4551-4A90-A3B9-9A7B73B1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8F96-BD5B-4DFA-9AE6-56B8F04F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645E-DC8E-4C12-95BE-DA3510DA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0E7B-388A-45F6-8EDC-3B112957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35A5-3D79-4F11-B226-9B4C7061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9274-8B50-490B-8F33-DB362745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BA73-3DFD-4885-8081-41370417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D93C-28F8-49A0-BF78-9AEDD36B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BA6-C463-423C-9E23-6843D78D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934D-BB63-4D2B-BD09-01D9EA8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2077-18ED-41DC-A828-93EDBFAE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4096-D261-4005-99B9-1AF6BC47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0CE3-8618-4046-9ADC-D65F2961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FC8E-AAB5-4436-98AA-F9607FDF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D82-FB93-4342-B9CB-6AB8FD6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015-1E2A-44A7-950B-0C042FE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F2E-9FA6-4462-B408-95D21B00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BC7-E8D0-484F-9EC8-451AC9AD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387-A1A2-445D-8E1C-BC9F77B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AD2-5040-41D3-AA43-5247ECD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48A-27C4-43BF-9A53-4E943AE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9BB5-6E09-4492-AD96-F6B6C85A1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A6B9-2B57-44C3-9BC2-759ADD10A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8AFA-EC8C-4F33-8432-BCE4A5441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Tang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0E5-6033-436C-BEE9-B0583D9C9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OREM #1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7" name="Object 36"/>
          <p:cNvGraphicFramePr/>
          <p:nvPr/>
        </p:nvGraphicFramePr>
        <p:xfrm>
          <a:off x="6400800" y="3505320"/>
          <a:ext cx="22147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505320"/>
                    <a:ext cx="2214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0"/>
          <p:cNvGraphicFramePr/>
          <p:nvPr/>
        </p:nvGraphicFramePr>
        <p:xfrm>
          <a:off x="990720" y="2743200"/>
          <a:ext cx="1687320" cy="5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743200"/>
                    <a:ext cx="16873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2"/>
          <p:cNvGraphicFramePr/>
          <p:nvPr/>
        </p:nvGraphicFramePr>
        <p:xfrm>
          <a:off x="7543800" y="2743200"/>
          <a:ext cx="5335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743200"/>
                    <a:ext cx="5335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Group 9"/>
          <p:cNvGrpSpPr/>
          <p:nvPr/>
        </p:nvGrpSpPr>
        <p:grpSpPr>
          <a:xfrm>
            <a:off x="533520" y="3429000"/>
            <a:ext cx="2819160" cy="2387160"/>
            <a:chOff x="533520" y="3429000"/>
            <a:chExt cx="2819160" cy="2387160"/>
          </a:xfrm>
        </p:grpSpPr>
        <p:pic>
          <p:nvPicPr>
            <p:cNvPr id="104" name="Picture 4" descr=""/>
            <p:cNvPicPr/>
            <p:nvPr/>
          </p:nvPicPr>
          <p:blipFill>
            <a:blip r:embed="rId7"/>
            <a:stretch/>
          </p:blipFill>
          <p:spPr>
            <a:xfrm>
              <a:off x="533520" y="3486240"/>
              <a:ext cx="2819160" cy="23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/>
            <p:cNvSpPr/>
            <p:nvPr/>
          </p:nvSpPr>
          <p:spPr>
            <a:xfrm>
              <a:off x="1411920" y="3429000"/>
              <a:ext cx="3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2099520" y="400536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3039480" y="4815000"/>
              <a:ext cx="31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1347840" y="481500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3962520" y="3505320"/>
            <a:ext cx="2014560" cy="2514600"/>
            <a:chOff x="3962520" y="3505320"/>
            <a:chExt cx="2014560" cy="2514600"/>
          </a:xfrm>
        </p:grpSpPr>
        <p:sp>
          <p:nvSpPr>
            <p:cNvPr id="110" name="AutoShape 13"/>
            <p:cNvSpPr/>
            <p:nvPr/>
          </p:nvSpPr>
          <p:spPr>
            <a:xfrm>
              <a:off x="3962520" y="3505320"/>
              <a:ext cx="201456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>
              <a:off x="4118040" y="4249800"/>
              <a:ext cx="1703160" cy="16207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4962240" y="4472280"/>
              <a:ext cx="577800" cy="5806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5273640" y="4338720"/>
              <a:ext cx="125280" cy="1494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5273640" y="4488120"/>
              <a:ext cx="141480" cy="1188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5415120" y="4472280"/>
              <a:ext cx="125280" cy="1346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4898880" y="3892680"/>
              <a:ext cx="641520" cy="57960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4898880" y="3892680"/>
              <a:ext cx="63720" cy="11602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2"/>
            <p:cNvSpPr/>
            <p:nvPr/>
          </p:nvSpPr>
          <p:spPr>
            <a:xfrm>
              <a:off x="5289120" y="40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3"/>
            <p:cNvSpPr/>
            <p:nvPr/>
          </p:nvSpPr>
          <p:spPr>
            <a:xfrm>
              <a:off x="5243040" y="482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4"/>
            <p:cNvSpPr/>
            <p:nvPr/>
          </p:nvSpPr>
          <p:spPr>
            <a:xfrm>
              <a:off x="4930920" y="5023080"/>
              <a:ext cx="777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5"/>
            <p:cNvSpPr/>
            <p:nvPr/>
          </p:nvSpPr>
          <p:spPr>
            <a:xfrm>
              <a:off x="4868640" y="5112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6"/>
            <p:cNvSpPr/>
            <p:nvPr/>
          </p:nvSpPr>
          <p:spPr>
            <a:xfrm>
              <a:off x="5508720" y="4442040"/>
              <a:ext cx="777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7"/>
            <p:cNvSpPr/>
            <p:nvPr/>
          </p:nvSpPr>
          <p:spPr>
            <a:xfrm>
              <a:off x="5601960" y="4338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>
              <a:off x="4869000" y="3862440"/>
              <a:ext cx="77760" cy="74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>
              <a:off x="4727160" y="3654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30"/>
          <p:cNvSpPr/>
          <p:nvPr/>
        </p:nvSpPr>
        <p:spPr>
          <a:xfrm>
            <a:off x="38098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525780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304920" y="1828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a line is tangent to a circle, then it is perpendicular to the radius drawn to the point of tan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1"/>
          <p:cNvSpPr/>
          <p:nvPr/>
        </p:nvSpPr>
        <p:spPr>
          <a:xfrm>
            <a:off x="3657600" y="2666880"/>
            <a:ext cx="0" cy="358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3: Tan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DDA9-8246-46A2-8B52-B4BCAC674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OREM #2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3" name="Object 48"/>
          <p:cNvGraphicFramePr/>
          <p:nvPr/>
        </p:nvGraphicFramePr>
        <p:xfrm>
          <a:off x="3352680" y="2438280"/>
          <a:ext cx="259092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438280"/>
                    <a:ext cx="25909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304920" y="1752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two segments from the same exterior point are tangent to a circle, then they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28600" y="3124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"/>
          <p:cNvGrpSpPr/>
          <p:nvPr/>
        </p:nvGrpSpPr>
        <p:grpSpPr>
          <a:xfrm>
            <a:off x="4495680" y="4038480"/>
            <a:ext cx="4038840" cy="2324160"/>
            <a:chOff x="4495680" y="4038480"/>
            <a:chExt cx="4038840" cy="2324160"/>
          </a:xfrm>
        </p:grpSpPr>
        <p:sp>
          <p:nvSpPr>
            <p:cNvPr id="138" name="AutoShape 8"/>
            <p:cNvSpPr/>
            <p:nvPr/>
          </p:nvSpPr>
          <p:spPr>
            <a:xfrm>
              <a:off x="4495680" y="4038480"/>
              <a:ext cx="40388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160960" y="4616280"/>
              <a:ext cx="1204920" cy="12067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 flipH="1">
              <a:off x="4822560" y="4376520"/>
              <a:ext cx="695160" cy="1359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5518080" y="4376520"/>
              <a:ext cx="2737080" cy="1648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4822920" y="5735520"/>
              <a:ext cx="3432240" cy="289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881600" y="58896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5199120" y="588960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4630680" y="44244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7"/>
            <p:cNvSpPr/>
            <p:nvPr/>
          </p:nvSpPr>
          <p:spPr>
            <a:xfrm>
              <a:off x="4948200" y="442440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8"/>
            <p:cNvSpPr/>
            <p:nvPr/>
          </p:nvSpPr>
          <p:spPr>
            <a:xfrm>
              <a:off x="7031160" y="5002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9"/>
            <p:cNvSpPr/>
            <p:nvPr/>
          </p:nvSpPr>
          <p:spPr>
            <a:xfrm>
              <a:off x="7348680" y="500220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8236080" y="6005520"/>
              <a:ext cx="47520" cy="48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1"/>
            <p:cNvSpPr/>
            <p:nvPr/>
          </p:nvSpPr>
          <p:spPr>
            <a:xfrm>
              <a:off x="8283240" y="59864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2"/>
            <p:cNvSpPr/>
            <p:nvPr/>
          </p:nvSpPr>
          <p:spPr>
            <a:xfrm>
              <a:off x="5497560" y="4356000"/>
              <a:ext cx="49320" cy="49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3"/>
            <p:cNvSpPr/>
            <p:nvPr/>
          </p:nvSpPr>
          <p:spPr>
            <a:xfrm>
              <a:off x="5450040" y="41353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4"/>
            <p:cNvSpPr/>
            <p:nvPr/>
          </p:nvSpPr>
          <p:spPr>
            <a:xfrm>
              <a:off x="4803840" y="5716440"/>
              <a:ext cx="493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4640400" y="5619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5738760" y="5195880"/>
              <a:ext cx="493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7"/>
            <p:cNvSpPr/>
            <p:nvPr/>
          </p:nvSpPr>
          <p:spPr>
            <a:xfrm>
              <a:off x="6048360" y="46846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8"/>
            <p:cNvSpPr/>
            <p:nvPr/>
          </p:nvSpPr>
          <p:spPr>
            <a:xfrm>
              <a:off x="6095520" y="4471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9"/>
            <p:cNvSpPr/>
            <p:nvPr/>
          </p:nvSpPr>
          <p:spPr>
            <a:xfrm>
              <a:off x="5208480" y="4925880"/>
              <a:ext cx="493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5016600" y="4800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31"/>
            <p:cNvSpPr/>
            <p:nvPr/>
          </p:nvSpPr>
          <p:spPr>
            <a:xfrm>
              <a:off x="5691240" y="57942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2"/>
            <p:cNvSpPr/>
            <p:nvPr/>
          </p:nvSpPr>
          <p:spPr>
            <a:xfrm>
              <a:off x="5672160" y="5803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5791320" y="2133720"/>
            <a:ext cx="3352680" cy="2549520"/>
            <a:chOff x="5791320" y="2133720"/>
            <a:chExt cx="3352680" cy="2549520"/>
          </a:xfrm>
        </p:grpSpPr>
        <p:sp>
          <p:nvSpPr>
            <p:cNvPr id="163" name="AutoShape 33"/>
            <p:cNvSpPr/>
            <p:nvPr/>
          </p:nvSpPr>
          <p:spPr>
            <a:xfrm>
              <a:off x="5791320" y="2133720"/>
              <a:ext cx="3352680" cy="25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5"/>
            <p:cNvSpPr/>
            <p:nvPr/>
          </p:nvSpPr>
          <p:spPr>
            <a:xfrm>
              <a:off x="5991120" y="2695680"/>
              <a:ext cx="1747800" cy="17463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7015320" y="2716200"/>
              <a:ext cx="1645920" cy="320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7"/>
            <p:cNvSpPr/>
            <p:nvPr/>
          </p:nvSpPr>
          <p:spPr>
            <a:xfrm flipH="1">
              <a:off x="7437240" y="3036960"/>
              <a:ext cx="1223640" cy="1144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8"/>
            <p:cNvSpPr/>
            <p:nvPr/>
          </p:nvSpPr>
          <p:spPr>
            <a:xfrm>
              <a:off x="8159760" y="3338640"/>
              <a:ext cx="160200" cy="200160"/>
            </a:xfrm>
            <a:prstGeom prst="line">
              <a:avLst/>
            </a:prstGeom>
            <a:ln w="60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 flipH="1">
              <a:off x="7959600" y="2756160"/>
              <a:ext cx="60480" cy="241200"/>
            </a:xfrm>
            <a:prstGeom prst="line">
              <a:avLst/>
            </a:prstGeom>
            <a:ln w="60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0"/>
            <p:cNvSpPr/>
            <p:nvPr/>
          </p:nvSpPr>
          <p:spPr>
            <a:xfrm>
              <a:off x="8621640" y="2997360"/>
              <a:ext cx="100080" cy="100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1"/>
            <p:cNvSpPr/>
            <p:nvPr/>
          </p:nvSpPr>
          <p:spPr>
            <a:xfrm>
              <a:off x="8742240" y="28767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2"/>
            <p:cNvSpPr/>
            <p:nvPr/>
          </p:nvSpPr>
          <p:spPr>
            <a:xfrm>
              <a:off x="6815160" y="3519720"/>
              <a:ext cx="100080" cy="100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43"/>
            <p:cNvSpPr/>
            <p:nvPr/>
          </p:nvSpPr>
          <p:spPr>
            <a:xfrm>
              <a:off x="6975360" y="2675160"/>
              <a:ext cx="10008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44"/>
            <p:cNvSpPr/>
            <p:nvPr/>
          </p:nvSpPr>
          <p:spPr>
            <a:xfrm>
              <a:off x="6875640" y="233388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7397640" y="4141800"/>
              <a:ext cx="100080" cy="100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6"/>
            <p:cNvSpPr/>
            <p:nvPr/>
          </p:nvSpPr>
          <p:spPr>
            <a:xfrm>
              <a:off x="7437600" y="416088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47"/>
          <p:cNvSpPr/>
          <p:nvPr/>
        </p:nvSpPr>
        <p:spPr>
          <a:xfrm>
            <a:off x="1600200" y="3124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2"/>
          <p:cNvGraphicFramePr/>
          <p:nvPr/>
        </p:nvGraphicFramePr>
        <p:xfrm>
          <a:off x="3886200" y="3048120"/>
          <a:ext cx="182880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048120"/>
                    <a:ext cx="18288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4"/>
          <p:cNvSpPr/>
          <p:nvPr/>
        </p:nvSpPr>
        <p:spPr>
          <a:xfrm>
            <a:off x="533520" y="3581280"/>
            <a:ext cx="4419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f AB = 1.8 cm, then AF = 1.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 = AF + 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 = 1.8 + 7.0 = 8.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f FE = 7.0 cm, then DE = 7.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 = CD +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 = 2.4 + 7.0 = 9.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9:33:15Z</dcterms:created>
  <dc:creator>Administrator</dc:creator>
  <dc:description/>
  <dc:language>en-US</dc:language>
  <cp:lastModifiedBy>chmorgan</cp:lastModifiedBy>
  <dcterms:modified xsi:type="dcterms:W3CDTF">2013-04-09T19:17:49Z</dcterms:modified>
  <cp:revision>19</cp:revision>
  <dc:subject/>
  <dc:title>8-3 TANGENTS</dc:title>
</cp:coreProperties>
</file>